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drumroll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433-ACF9-452E-AA02-A122F71B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492-30CC-4CDD-8EFA-A0A2624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649-78E1-4046-A05D-4CF3D85C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22A-A4D6-4AB4-BE3D-3C938ABD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9CF-7460-48F2-95A4-0206A517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232A-55E0-4539-A395-A661F190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DF77-5444-4F6F-84EE-455A57B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180A-64BB-4D8C-A5DA-A0EB12D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5AEA-7947-433E-836F-6910FD3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2B84-6D37-435A-9734-DE42952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C802-8290-4AE4-9884-630DB2A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0A1-198A-410A-A543-C5EC4C9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8636-563E-47EE-908A-3260117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AB6-D9F2-48DC-8083-A005ACF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829D-DE11-48EA-BB4F-B528F20B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BF8-0E7A-4559-8D82-459528E4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054-7862-4ACC-8B07-06500A54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762-3F61-421B-B3E0-6C604D2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FE0-CB15-4F30-BA3D-D3B76D7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A5C-2B10-47E1-BC84-32DF3E1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7CA-E0EC-475A-A8EA-4666235A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BC2-7247-41BA-83F1-703A1B0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879-897F-451A-91E7-4782ACB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E06-DC4C-4819-9277-FB2127C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63A-6E5C-4494-B5B5-C595F76DE5A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288-02F3-450A-87F6-1A19C9364CA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rumroll.wav" TargetMode="External"/><Relationship Id="rId2" Type="http://schemas.microsoft.com/office/2007/relationships/media" Target="file:///tmp/home/.config/libreoffice/4/user/gallery/drumroll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4436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КЛЮЧИТЕЛЬНЫЙ ТУ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11280" y="5805360"/>
            <a:ext cx="8207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«САМЫЙ УМНЫЙ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5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НИЕ 1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СЛЕ ПРОСМОТРА ОПЫТА, ОТВЕТЬТЕ НА ВОПРОС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ИЕ ХИМИЧЕСКИЕ И ФИЗИЧЕСКИЕ ЯВЛЕНИЯ ОБЪЯСНЯЮТ ПРОИСХОДЯЩЕЕ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НИЕ 2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Какой объём займет при нормальных условиях 32 г кислорода?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07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ТВЕ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 Black"/>
              </a:rPr>
              <a:t>22, 4 л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НИЕ 3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Найдите в тексте все химические и физические явления, которые происходили со студентом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807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верка ответов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ЗАКЛЮЧИТЕЛЬНОЕ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ПОДВЕДЕНИЕ ИТОГОВ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455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5705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37:19Z</dcterms:created>
  <dc:creator>Olesya</dc:creator>
  <dc:description/>
  <dc:language>en-US</dc:language>
  <cp:lastModifiedBy>Olesya</cp:lastModifiedBy>
  <dcterms:modified xsi:type="dcterms:W3CDTF">2007-11-12T17:37:19Z</dcterms:modified>
  <cp:revision>6</cp:revision>
  <dc:subject/>
  <dc:title>ЗАКЛЮЧИТЕЛЬНЫЙ ТУР</dc:title>
</cp:coreProperties>
</file>